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6506-AD67-4620-BE74-68D39CE1DC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2EBC-9A72-40BC-BD95-CABCB75EE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AC48-7339-4222-AC3A-308744C2B1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742E-E7A5-4563-B466-EF175E92E1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E5ED-2449-4FCE-8AD5-52F71F4B7D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84A9-8A49-43F2-877B-BA92AC66D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08AA-D5F2-4F48-BFA1-61C0C75A84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723E-0437-4FEE-B5B1-30EDD81CB0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9AB-AB35-4E6C-AC5F-9529274A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657-4D0F-414F-84D1-16497293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931-5969-448C-9996-2A956EF0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B08-2D86-4269-9BFC-11BE602C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B4C9-F024-478E-B2BD-EC51DBDC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557B-4C34-4B4F-A1EC-47F645A2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F492-2E19-44F6-8985-B0566D00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0AE0-5B91-48DA-BDF2-72113668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AEA5-98CD-4A06-8D60-6ABD6E1A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615F-6D25-434B-BD79-4028E8DA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4986-9BE9-4CCD-8294-34D2EC95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38A-0F2E-4817-A05A-73EC31AB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F45A-49FD-47C6-B855-FC6A57BF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F4E4-D0F9-4478-A321-281DF8D1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6847-0B02-40CA-B516-4D472D98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9772-4554-431C-8332-74B284AD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4D79-4641-43B5-9C9D-5F851854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625-3C57-4C37-9551-73EDCE7A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B90-DB69-4388-93A2-E910C2F3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BDE-9497-4A1D-9E96-FD96375A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26E-01D1-483A-9413-6057BC5C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740-1674-445D-B0FC-BED8E7B6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5F4-C3AB-4259-86F6-BB4D53FF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84D-867D-45C5-851E-4E3F5D8A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734C-1E6F-4E0E-9614-526E3EA32E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C051-28A6-4E54-B551-7F8ED29CCD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Язык программирования 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Python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Алфавит, переменные, типы данны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шите программу, выводящую на экран три стоки: ваше имя, дату рождения, класс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cr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2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еня зовут 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родился 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учусь в 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692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йте строки в  числа: “36768”,”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”,”12,56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йте дробные числа в целые 34, 78;                                                                 9, 23 ;                                                                 101, 29754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4360" y="33336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ычислите площадь комнаты шириной 8,5 м и длинной 12 м, используя переменные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lina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irina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losad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шите программу перевода температуры из шкалы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Фаренгейта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в шкалу Цельсия по формуле C = 5 / 9 * (F - 32). Исходной температурой считать температуру воздуха на улице.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mper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33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интерактивном режиме вычислите количество минут в неделе. Результат сохраните в переменной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nuti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времени в пути, если вы проехали 200 км со скоростью 80 км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Vremay_pyti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мените в программе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mper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y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формулу, что вы получите в результат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float(5 / 9 * (F – 32)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5 / 9 * float(F– 3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696440" cy="13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Язык программирования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Python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имеет собственный алфавит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, 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состоящий из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Латинских букв(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Цифр (от 0 до 9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ециальных знаков (+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-, (, [, {,;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лужебных слов (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nt, if, input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еременная (имя переменной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и написании программы для переменной величины вводятся обозначения (также как и в математике). Такое обозначение называют именем величин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336666"/>
                </a:solidFill>
                <a:latin typeface="Arial"/>
              </a:rPr>
              <a:t>Имя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– это слово из букв, цифр и знаков подчеркивания, начинающихся с буквы. Имя также называют переменной или именем переменно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имер: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     </a:t>
            </a: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Нельзя!!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_program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koroS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aaaaaaa_bbbbbbbbb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o3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Super-star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day of week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7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5013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ЧЕСТВЕ ИМЕНИ ПЕРЕМЕННОЙ НЕЛЬЗЯ ИСПОЛЬЗОВАТЬ СЛУЖЕБНЫЕ СЛОВА!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, if, inpu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 переменно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е имя в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ет некоторой ячейке памяти, куда записываются значения переменной величины.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инамическая типизация, т.е. во  время присваивания переменной какого-либо значения интерпретатор автоматически относит переменную к одному из типов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960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ы данных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125360"/>
          <a:ext cx="7696440" cy="5048280"/>
        </p:xfrm>
        <a:graphic>
          <a:graphicData uri="http://schemas.openxmlformats.org/drawingml/2006/table">
            <a:tbl>
              <a:tblPr/>
              <a:tblGrid>
                <a:gridCol w="2657520"/>
                <a:gridCol w="2473560"/>
                <a:gridCol w="256536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данны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на яз. 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е числ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 -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е числ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a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 -2</a:t>
                      </a: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а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6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ы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, 654, 75]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атематические операци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07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работа с числами используются 6 математических операци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е остатка от делени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3 =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деление нацело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11 div 3 =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Изменение типа данных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ля преобразования типов данных предназначены следующие функции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(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ет строку или число с с плавающей точкой в цело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str(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преобразует переданный ей аргумент в строку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float(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- в дробное числ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4360" y="11970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е         Результат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“56”)                               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4.03)                                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“comp 486”)                 O ш и б к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 (56)                                   '56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 (4.03)                                '4.03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(56)                                  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(“56”)                               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1:19:36Z</dcterms:created>
  <dc:creator>Натуля</dc:creator>
  <dc:description/>
  <dc:language>en-US</dc:language>
  <cp:lastModifiedBy>Наталья</cp:lastModifiedBy>
  <dcterms:modified xsi:type="dcterms:W3CDTF">2011-03-08T12:16:35Z</dcterms:modified>
  <cp:revision>15</cp:revision>
  <dc:subject/>
  <dc:title>Язык программирования Pascal</dc:title>
</cp:coreProperties>
</file>